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wmf" ContentType="image/x-wmf"/>
  <Override PartName="/ppt/media/image16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189D-CA1B-47C4-9D5B-539972D12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A7DE-D700-4E99-A45D-855642C45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6AE1-BA7C-4101-856D-137126D5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CD1C-998B-40E9-AA54-1BE367FF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5D01-E31B-449C-A8BB-65838DC4D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5C94-2339-4BFA-9197-3026E4A19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hemical bond in which electrons are transferred from one atom to another is called an ionic bon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compound sodium chloride forms when sodium loses its valence electron to chl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9E3-9C6B-423A-9052-A724314C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EF11-308B-4310-A323-56A70187C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A35F-31E8-4EE9-8023-EB580438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6969-A1E1-458B-9DBC-6E8AE6699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8EA1-4DF3-4788-A7B6-5ACFC63E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DDC-B3FE-4B33-B5EC-9938E56C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504D-C5E2-4512-9E3E-CC2B66F9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lium atoms contain protons, neutrons, and electr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positively charged protons and uncharged neutrons are bound together in the dense nucleus, while the negatively charged electrons move in the space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48E-280B-4403-AD7F-AAA235E2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2AF-E4B9-479D-8154-C9470EF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91A-767C-4D22-B0FB-6399BDA6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2B8-BF4F-42E8-BD87-0DA24C70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0EBD-4244-4644-A46D-19970427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D469-70EE-4FFB-ADB2-B4E1509C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B7C3-9187-4B62-BD01-A2417B52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B58F-1C6C-4C61-87C2-AA2B2323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99F5-29A8-4660-97DD-4E5338B5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5569-2721-4A2C-874E-F2211217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BC28-3080-4325-B19A-D0395E69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D02-08EB-475B-BE74-9116E16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F6E2-9C01-4EF1-BE9B-173207B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0356-4921-41A2-AE86-2DAE368F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137D-53C6-4238-AC0A-23B81F08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BBEE-8F08-45B2-84D3-C1F7E8EC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D6A9-C86A-4D37-A131-A619ED43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7A8CD-AD53-434C-8049-6A588022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8EA0-5F36-4CE4-AC0C-17AD740B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EED8-81BA-4BBE-879D-47EEFC18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8FC6-83B2-458B-9E30-3E4C5F8F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8E2B-26B6-49CD-A22F-BD242CD3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E27-C6B1-4796-9754-123D3C39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C768B-63D1-43FB-8F7A-FCAE9379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917A-3D6F-473B-9438-AF7BEEF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12F4-1BE6-4120-AAB1-D6BC80ED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D205-3250-4B75-AF1C-1021F207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8572-C47A-4B24-B16B-5C800395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9671B-76CB-4A8F-8BAD-483A2B68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E7A0-D206-4F03-9588-AA904097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5486-DCCD-48DA-92B5-504AF36D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610C-60DF-4E9B-A65B-499C460F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D26E-3199-4E9C-AE75-89084F2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A47-EB5A-4155-9D97-C74978A9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BB907-2512-41C0-B7EA-A40BC1A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B63E-CCC6-4470-8F84-09807A02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C9137-AF43-470E-9383-2393DFD0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8C77-4B4A-4552-8884-310E7BC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A576-C98E-4500-900D-9D41841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7B00-698E-4749-9F7D-25DE798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F9AA-6B78-44E7-856A-8C1B3072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0E7D-16BF-430A-BA26-51341E27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D5739-4E71-48A3-B0F2-964F20FA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7606F-9425-4FE9-9E55-9FC4C1AF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ADE-4651-4295-BA33-1DA1FC31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92B7E-3E69-4D77-878D-E147D621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E48B6-1185-42E0-B65F-1EF42C39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2CD57-6F21-4994-A206-09261C5E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BA41E-55DC-4A00-8CEF-DFD43647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B700-00A7-43DD-AA57-1A5F622E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4D357-2039-44EA-A5F9-58ABCB5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0662-86FC-4BD4-AE55-D8CC9C35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3391-9711-44BB-B678-63B6B4E9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9C08-6408-4F54-BE15-23C332EA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E2CF6-B97E-4627-97AE-07AF4511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4E0-7E9A-4333-93CA-7F885A04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1A835-EEFF-4C17-9355-125D8999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71C62-FB60-4A02-9272-430B8668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7F0B2-BBB5-464D-A4BE-54226827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2F5E4-99E0-4A6C-B9EC-2173F5F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2E08-D9D8-446A-9740-6C76A5BE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1513-AE88-4925-BFA3-9DA8F48A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37A2E-68C8-4885-8908-C31B2D95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4125B-7C7F-46E2-8178-C019BC95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F02EB-687C-4DF1-A65B-CDA8E297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28749-8D18-47D9-B78F-4B95B43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EC2-459A-45C2-9F25-CF1ED533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7F76-9A36-4B37-B42F-EDAB6F25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F5F67-F0E9-498D-866C-969DC4FC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FDF24-1B14-48C7-9E68-91919F5F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2C2E-00F3-4303-89A8-114D5EEF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AE510-C19F-48DD-AE92-CA97F0FD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81266-BC7E-40CB-8580-0325C6E6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68B44-47A6-4AE9-AAF5-7FE40613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A7A73-D5A8-48FA-83AD-E2EDEE1F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AF71D-2136-4BD3-82B8-ADC57646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419D6-E0CC-438A-933B-953797DC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C04-E13B-45A5-B29F-F9DAC879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DF9F5-C975-4128-A62B-C3C84AF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CFE7-0AF4-45E8-AF25-DA1B65A0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F206-231D-4C46-9492-B52ABA4A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9C32D-F5FB-4BB7-985B-6DF0B730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7A7AE-3041-4D26-8E33-DCA52D08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709AB-64CA-4619-9C70-54A12654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D431C-2B70-4464-9AE2-9BF74027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CB4B6-EA67-4B67-AEA0-473E1C7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09B13-252B-4166-8194-2D20926F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998FC-49A4-409E-AA77-D03DB427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599-8651-4417-8D13-4BD879A6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14CF8-5597-4336-BF0E-C8729C1E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E5813-8CF9-4166-94D6-0083771A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A1F75-9DD3-4F91-8223-B9B81586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4F271-5C57-4EB3-BD21-4DEF0AD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B9D00-71E6-4DC2-9898-39C89013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5D7CC-31A8-4DAC-A63D-3EFD9EE5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99A4E-AA84-46BF-A257-C944095F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outine copy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827360" y="-360"/>
            <a:ext cx="7316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Aft>
                <a:spcPts val="2500"/>
              </a:spcAft>
              <a:buClr>
                <a:srgbClr val="a5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1" marL="157680" indent="93240">
              <a:spcAft>
                <a:spcPts val="2500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2" marL="220680" indent="281880"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3" marL="283680" indent="283680">
              <a:spcAft>
                <a:spcPts val="25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4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5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6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6" descr="logo_ph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274C-1C66-461E-A764-BDBCA1A3B9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0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000"/>
              </a:spcBef>
              <a:spcAft>
                <a:spcPts val="2999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 indent="-381960">
              <a:spcBef>
                <a:spcPts val="4000"/>
              </a:spcBef>
              <a:spcAft>
                <a:spcPts val="2999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 indent="-1526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arrow"/>
          <p:cNvPicPr/>
          <p:nvPr/>
        </p:nvPicPr>
        <p:blipFill>
          <a:blip r:embed="rId4"/>
          <a:stretch/>
        </p:blipFill>
        <p:spPr>
          <a:xfrm>
            <a:off x="45734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key"/>
          <p:cNvPicPr/>
          <p:nvPr/>
        </p:nvPicPr>
        <p:blipFill>
          <a:blip r:embed="rId5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title"/>
          </p:nvPr>
        </p:nvSpPr>
        <p:spPr>
          <a:xfrm>
            <a:off x="491328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4" name="Picture 21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2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DF75-89F9-42FA-B6DD-0FFDDD6B96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8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000"/>
              </a:spcBef>
              <a:spcAft>
                <a:spcPts val="2999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 indent="-381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 indent="-1526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key"/>
          <p:cNvPicPr/>
          <p:nvPr/>
        </p:nvPicPr>
        <p:blipFill>
          <a:blip r:embed="rId5"/>
          <a:stretch/>
        </p:blipFill>
        <p:spPr>
          <a:xfrm>
            <a:off x="622440" y="240048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5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17" name="Picture 29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322E-315D-43E8-B3A1-A953FC70B8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9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 indent="3286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75760" indent="432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6D10-01EE-47FA-8E8C-63BD2FABC1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23652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23148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8962-3988-45ED-BFFA-91C92A94C9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 indent="3286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83760" indent="49356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9" descr="Process_art_ARROWS copy"/>
          <p:cNvPicPr/>
          <p:nvPr/>
        </p:nvPicPr>
        <p:blipFill>
          <a:blip r:embed="rId6"/>
          <a:stretch/>
        </p:blipFill>
        <p:spPr>
          <a:xfrm>
            <a:off x="0" y="-11160"/>
            <a:ext cx="666720" cy="7016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0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06FD-09BB-4F8F-A94F-B39D252E18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9" descr="mov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 indent="3286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83760" indent="49356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6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0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F048-57C3-413C-9ACD-3691E5DED2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0B27-48CA-4F16-9D10-4E0794CAB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58720" y="259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nd Molecula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I find the number of prot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(atomic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Number = The # of 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find the number of neutr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– 6 = 6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Mass – Atomic Number = The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55680" y="326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mic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tance formed by the chemical combination of two or more elements in definite pro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6" descr="C:\Storage Area\Programs\350px-Water_molecule.svg.png"/>
          <p:cNvPicPr/>
          <p:nvPr/>
        </p:nvPicPr>
        <p:blipFill>
          <a:blip r:embed="rId1"/>
          <a:stretch/>
        </p:blipFill>
        <p:spPr>
          <a:xfrm>
            <a:off x="522360" y="2647800"/>
            <a:ext cx="3333600" cy="3810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"/>
          <p:cNvPicPr/>
          <p:nvPr/>
        </p:nvPicPr>
        <p:blipFill>
          <a:blip r:embed="rId2"/>
          <a:srcRect l="2268" t="11262" r="3884" b="1726"/>
          <a:stretch/>
        </p:blipFill>
        <p:spPr>
          <a:xfrm>
            <a:off x="4797360" y="2908440"/>
            <a:ext cx="391644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emical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sa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6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formed from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bination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ways formed in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H3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CO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1222538604a9E3XL"/>
          <p:cNvPicPr/>
          <p:nvPr/>
        </p:nvPicPr>
        <p:blipFill>
          <a:blip r:embed="rId1"/>
          <a:stretch/>
        </p:blipFill>
        <p:spPr>
          <a:xfrm>
            <a:off x="5499000" y="1339920"/>
            <a:ext cx="323856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80960" y="904680"/>
            <a:ext cx="82296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are chemically and physically different from the elements they are made fro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Water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) has different properties than hydrogen (H) or oxygen (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Elements-Mixtures-Compounds_Atoms-Molecules"/>
          <p:cNvPicPr/>
          <p:nvPr/>
        </p:nvPicPr>
        <p:blipFill>
          <a:blip r:embed="rId1"/>
          <a:stretch/>
        </p:blipFill>
        <p:spPr>
          <a:xfrm>
            <a:off x="1654200" y="2733840"/>
            <a:ext cx="60069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185760" y="612720"/>
            <a:ext cx="488952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s in compounds are held together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that are available to form bond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5" descr="C:\Storage Area\Programs\img018.gif"/>
          <p:cNvPicPr/>
          <p:nvPr/>
        </p:nvPicPr>
        <p:blipFill>
          <a:blip r:embed="rId1"/>
          <a:stretch/>
        </p:blipFill>
        <p:spPr>
          <a:xfrm>
            <a:off x="5581800" y="1974960"/>
            <a:ext cx="29048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types of chemical bond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ic bo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96880" y="47916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f attraction between oppositely charged ions (atoms that gain or lose electrons); electron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e.g., Na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"/>
          <p:cNvPicPr/>
          <p:nvPr/>
        </p:nvPicPr>
        <p:blipFill>
          <a:blip r:embed="rId1"/>
          <a:srcRect l="0" t="0" r="0" b="6769"/>
          <a:stretch/>
        </p:blipFill>
        <p:spPr>
          <a:xfrm>
            <a:off x="1203480" y="3021120"/>
            <a:ext cx="692784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492120" y="1654200"/>
            <a:ext cx="8104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for though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biology class (the study of Life), so why is it important that we learn about atomic structure and water properties, when they are not li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2-3c"/>
          <p:cNvPicPr/>
          <p:nvPr/>
        </p:nvPicPr>
        <p:blipFill>
          <a:blip r:embed="rId1"/>
          <a:stretch/>
        </p:blipFill>
        <p:spPr>
          <a:xfrm>
            <a:off x="4127400" y="2936880"/>
            <a:ext cx="182520" cy="182520"/>
          </a:xfrm>
          <a:prstGeom prst="rect">
            <a:avLst/>
          </a:prstGeom>
          <a:ln w="0">
            <a:noFill/>
          </a:ln>
        </p:spPr>
      </p:pic>
      <p:sp>
        <p:nvSpPr>
          <p:cNvPr id="463" name="Line 8"/>
          <p:cNvSpPr/>
          <p:nvPr/>
        </p:nvSpPr>
        <p:spPr>
          <a:xfrm>
            <a:off x="4361040" y="306216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2-3b"/>
          <p:cNvPicPr/>
          <p:nvPr/>
        </p:nvPicPr>
        <p:blipFill>
          <a:blip r:embed="rId2"/>
          <a:stretch/>
        </p:blipFill>
        <p:spPr>
          <a:xfrm>
            <a:off x="1571760" y="693720"/>
            <a:ext cx="6330960" cy="47782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9"/>
          <p:cNvSpPr/>
          <p:nvPr/>
        </p:nvSpPr>
        <p:spPr>
          <a:xfrm>
            <a:off x="0" y="0"/>
            <a:ext cx="19573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0.07865 4.81481E-006 E">
                                      <p:cBhvr>
                                        <p:cTn id="48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272880" y="220320"/>
            <a:ext cx="8871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bond formed when 2 atoms combine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electr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1547640" y="2368440"/>
            <a:ext cx="61264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36680" y="593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 that results when atoms are joined together by covalent bonds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" descr="sb4853f1"/>
          <p:cNvPicPr/>
          <p:nvPr/>
        </p:nvPicPr>
        <p:blipFill>
          <a:blip r:embed="rId1"/>
          <a:stretch/>
        </p:blipFill>
        <p:spPr>
          <a:xfrm>
            <a:off x="3133800" y="1996920"/>
            <a:ext cx="417348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38240" y="171360"/>
            <a:ext cx="85471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more bond type…Van der Waals Fo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olecules are close together, a slight attraction can develop between the oppositely charged regions of nearby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757760" y="2374920"/>
            <a:ext cx="37288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820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re substance that is composed of only one typ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There are 92 natural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Sodium (Na), Chlorine (Cl), Hydrogen (H), Lead (P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eriodic1"/>
          <p:cNvPicPr/>
          <p:nvPr/>
        </p:nvPicPr>
        <p:blipFill>
          <a:blip r:embed="rId1"/>
          <a:stretch/>
        </p:blipFill>
        <p:spPr>
          <a:xfrm>
            <a:off x="2967120" y="2994120"/>
            <a:ext cx="58705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82600" y="71568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matter; smallest particl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with all properties of that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857840" y="3317760"/>
            <a:ext cx="3127320" cy="2810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C:\Storage Area\Programs\598px-Helium_atom_QM.svg.png"/>
          <p:cNvPicPr/>
          <p:nvPr/>
        </p:nvPicPr>
        <p:blipFill>
          <a:blip r:embed="rId2"/>
          <a:srcRect l="0" t="0" r="0" b="13694"/>
          <a:stretch/>
        </p:blipFill>
        <p:spPr>
          <a:xfrm>
            <a:off x="657360" y="3009960"/>
            <a:ext cx="40575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501120" y="0"/>
            <a:ext cx="86425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ced side by side, 100 million atoms would make a row only about 1 centimeter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cont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atomic partic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re even sma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6" descr=""/>
          <p:cNvPicPr/>
          <p:nvPr/>
        </p:nvPicPr>
        <p:blipFill>
          <a:blip r:embed="rId1"/>
          <a:stretch/>
        </p:blipFill>
        <p:spPr>
          <a:xfrm>
            <a:off x="4387680" y="2405160"/>
            <a:ext cx="28576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28520" y="275760"/>
            <a:ext cx="887112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atomic particles that make up atom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C:\Storage Area\Programs\atom-bohr.gif"/>
          <p:cNvPicPr/>
          <p:nvPr/>
        </p:nvPicPr>
        <p:blipFill>
          <a:blip r:embed="rId1"/>
          <a:srcRect l="0" t="0" r="0" b="2791"/>
          <a:stretch/>
        </p:blipFill>
        <p:spPr>
          <a:xfrm>
            <a:off x="4378320" y="1366920"/>
            <a:ext cx="42069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222120" y="407880"/>
            <a:ext cx="3687840" cy="31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ns (+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ly charged particles in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trons (0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utral particles (no charge) in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s (-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ly charged particles outside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sb4850f1"/>
          <p:cNvPicPr/>
          <p:nvPr/>
        </p:nvPicPr>
        <p:blipFill>
          <a:blip r:embed="rId1"/>
          <a:stretch/>
        </p:blipFill>
        <p:spPr>
          <a:xfrm>
            <a:off x="4792680" y="638280"/>
            <a:ext cx="370692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4640" y="1240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 of same element w/ different number of neutrons (e.g., carbon-12, carbon-13, carbon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cisotopes"/>
          <p:cNvPicPr/>
          <p:nvPr/>
        </p:nvPicPr>
        <p:blipFill>
          <a:blip r:embed="rId1"/>
          <a:stretch/>
        </p:blipFill>
        <p:spPr>
          <a:xfrm>
            <a:off x="5483160" y="2673360"/>
            <a:ext cx="28418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94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lmost all the mass of an atom is in the center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he mass of an atom can be calculated by adding the numb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nu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(Atomic Ma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ns + Neutrons =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e</dc:creator>
  <dc:description/>
  <dc:language>en-US</dc:language>
  <cp:lastModifiedBy>Julia Glick</cp:lastModifiedBy>
  <dcterms:modified xsi:type="dcterms:W3CDTF">2015-07-26T01:33:55Z</dcterms:modified>
  <cp:revision>73</cp:revision>
  <dc:subject/>
  <dc:title>Biology</dc:title>
</cp:coreProperties>
</file>